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974-43CA-494A-AA3E-2361C829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F08-C5B4-48C3-A8DD-6B64AA6C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9E9-C086-47CF-97BC-8B13A54A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98C-50EF-4428-BF2B-5196A7F4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68F-6EF0-4B7B-ACD3-0C31439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8DA-5AB8-48C5-A920-FC267F88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793-4AB0-4724-BD79-B2FC3AC6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5B2-355A-4009-AD04-17675E3C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78F-9F86-468B-8D51-FFC4E50D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0BE-8A5E-4526-88B9-73D4989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DC4-76B4-4CC3-95C3-2DA4D48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F7A-91E9-4395-B61D-D90B5EA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3FE3B-F686-44E8-B3B7-7EF8466C23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Figure 14.1.jpg"/>
          <p:cNvPicPr/>
          <p:nvPr/>
        </p:nvPicPr>
        <p:blipFill>
          <a:blip r:embed="rId1"/>
          <a:stretch/>
        </p:blipFill>
        <p:spPr>
          <a:xfrm>
            <a:off x="2392200" y="0"/>
            <a:ext cx="4357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3:22Z</dcterms:created>
  <dc:creator>Administrator</dc:creator>
  <dc:description/>
  <dc:language>en-US</dc:language>
  <cp:lastModifiedBy>Administrator</cp:lastModifiedBy>
  <dcterms:modified xsi:type="dcterms:W3CDTF">2012-04-04T09:33:33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